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AFED-66FF-4BAC-920C-067E98DBE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F580-010A-4F9A-A7E8-7F2CE2E5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528D-EA58-4246-84AA-547890B4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14A4-A27E-44E7-AE45-A36B0F646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9DEF-3919-4C0A-AE68-B7988823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D116-1202-4F9B-8FB6-975083BC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5B60-3F7A-4218-BBCA-8E16B4B9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32A5-2A76-4D2C-870A-F23A8742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2B13-A661-4AB3-B509-8FC05477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8838-1A56-4AFB-B570-B596D6B0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9BC5-5DCD-4B3E-88C2-1975E7B2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DF0B-19F1-4083-ABA9-E539D317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51BD-2BB9-439C-A59D-762F72D85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izenship &amp; Democ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s 4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12560" y="741240"/>
            <a:ext cx="4428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. Types of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Criminal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Fun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Felo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Misdemean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Civil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Laws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T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Public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Administrative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Statutory La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International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06200" y="114480"/>
            <a:ext cx="8052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VII: Development of Law/Criminal/Civil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cient Tra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on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o Major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iminal Law (Just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vil Law (Equity &amp; Compens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vil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erty Disp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each of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mily Ma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lig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qu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58440" y="320760"/>
            <a:ext cx="5429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Law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umm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Defendant’s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retrial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Trial, Verd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Appe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Criminal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Fel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Misdemea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Pena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F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Impriso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a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87680" y="320760"/>
            <a:ext cx="5211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Ar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reliminary H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Indic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Arra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Verd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Sentenc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Juvenile Cour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Delin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Rea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W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Juvenile Co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Ar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arental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35880" y="282600"/>
            <a:ext cx="5022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Released or H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reliminary H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Trial (peer ju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Verd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Sent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. Supreme Court Ru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In Re Gault 19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arent No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harges in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Miranda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. Innocent Until Proven Guil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. Affects on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te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pic IV: Citizenship &amp; Democrac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 Du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Things that we MUST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Obey laws (most import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Pay t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Defend the 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Jury Du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Established by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Con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Why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Obey the la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Most Impor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Why? (Propert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Pay Ta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Fund public services (schools, librar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Federal, State, 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Federal Income 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State Sales 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Local Property 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Defend the 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Selective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Lottery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Vietn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Serve in cou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Jury duty; Un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Witness, Supeo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Attend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Mandatory School; 16y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Wh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Problem solve, life sk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I. Responsibiliti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. Things that we SHOULD d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. Be informe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. Vo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. Tolera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. Volunte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. Respect others rights &amp; proper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. No punish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. Meant to benefit commun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09480" y="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-80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Informed &amp; Vote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Gov’t affects your life di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Share your approval/dis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Vote AFTER you are in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Majority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Gives consent to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Respect D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Tolerance no matter what 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All citizens eq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Ensures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Volunteer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Contribute to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ime, Effort, 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Needed for democracy to SURV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Peacecorps, Americorps, Seniorcor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School-based progra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Shared Respon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Citizens &amp; Gov’t work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Gov’t cannot work quickly..Bureauc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Promote general welfare; Health, Happ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6800" y="414360"/>
            <a:ext cx="7539120" cy="39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ultimate rulers of our democracy are not a president and senators and congressmen/women and government officials, but the voters of this country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Franklin D. Roosevel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Agree or Disagre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Why or Why Not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2880" y="1868400"/>
            <a:ext cx="327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93680" y="114480"/>
            <a:ext cx="6107400" cy="63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V. Citizenship &amp;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WW,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reased Democ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98108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Think T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98108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Museums,Arch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E-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Group Action 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Special Interest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News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. Election &amp;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Fundra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Grassro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B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1240" y="365040"/>
            <a:ext cx="48776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. 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World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Digital Div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Extremist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paga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riv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Internet Wiret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Consumer 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. Regulation of 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Free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In General &amp; At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Copy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Intellectual Prop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Nap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MCA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Tax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E-Comme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At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Filters,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 Parental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-359640" y="0"/>
            <a:ext cx="7290000" cy="72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VI. Legal Rights &amp;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s of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rly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mmurabi 176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10 Command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Moral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Roman Law 45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Jurispru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Common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Prece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. American Lega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U.S. Con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Stare Deci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Articles, Bill of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Rights of the Acc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4th, 5th, 6th, 8th amendments (bai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Impartial J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lea Bar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Department of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9:00:44Z</dcterms:created>
  <dc:creator>Chatham Central</dc:creator>
  <dc:description/>
  <dc:language>en-US</dc:language>
  <cp:lastModifiedBy>Chatham County</cp:lastModifiedBy>
  <dcterms:modified xsi:type="dcterms:W3CDTF">2009-11-16T15:57:45Z</dcterms:modified>
  <cp:revision>10</cp:revision>
  <dc:subject/>
  <dc:title>Citizenship &amp; Community</dc:title>
</cp:coreProperties>
</file>